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3D2-1134-4411-905E-5D2AFB2F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35CC-83B7-4026-AA12-781D3223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7900-A492-447A-97D2-A0018A3C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397C-A29B-4D5F-B081-D5BFA3F3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2C18-9869-4940-BFA5-933E75DC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1C0-2F6E-48AF-8E54-5796D1FB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78CD-5469-4953-9B83-33BBEA7A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B70-EB62-4592-87A1-08DEB74D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603B-E0D3-437C-B10D-D1BEB93B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1E0F-C03F-4826-A24D-1D1EEBEB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F86-6C3C-4119-9458-A3632150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9EE-2C47-445A-B012-AA103B6A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4500-84DC-4A63-9429-F8BC21419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4.jpe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900800">
            <a:off x="1555920" y="-571320"/>
            <a:ext cx="3576600" cy="478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57575"/>
                    </a:gs>
                    <a:gs pos="100000">
                      <a:srgbClr val="ffffff"/>
                    </a:gs>
                  </a:gsLst>
                  <a:lin ang="3498000"/>
                </a:gradFill>
                <a:latin typeface="Comic Sans MS"/>
              </a:rPr>
              <a:t>My Story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757575"/>
                  </a:gs>
                  <a:gs pos="100000">
                    <a:srgbClr val="ffffff"/>
                  </a:gs>
                </a:gsLst>
                <a:lin ang="3498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57575"/>
                    </a:gs>
                    <a:gs pos="100000">
                      <a:srgbClr val="ffffff"/>
                    </a:gs>
                  </a:gsLst>
                  <a:lin ang="3498000"/>
                </a:gradFill>
                <a:latin typeface="Comic Sans MS"/>
              </a:rPr>
              <a:t>  </a:t>
            </a: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57575"/>
                    </a:gs>
                    <a:gs pos="100000">
                      <a:srgbClr val="ffffff"/>
                    </a:gs>
                  </a:gsLst>
                  <a:lin ang="3498000"/>
                </a:gradFill>
                <a:latin typeface="Comic Sans MS"/>
              </a:rPr>
              <a:t>Book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757575"/>
                  </a:gs>
                  <a:gs pos="100000">
                    <a:srgbClr val="ffffff"/>
                  </a:gs>
                </a:gsLst>
                <a:lin ang="3498000"/>
              </a:gradFill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1808280" y="3429000"/>
            <a:ext cx="220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y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394080" cy="218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932000" y="1600200"/>
            <a:ext cx="3600360" cy="218592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  <a:hlinkClick r:id="rId4"/>
          </p:cNvPr>
          <p:cNvSpPr/>
          <p:nvPr/>
        </p:nvSpPr>
        <p:spPr>
          <a:xfrm>
            <a:off x="7740720" y="623736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4581360"/>
            <a:ext cx="352728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32360" y="4581360"/>
            <a:ext cx="352728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394080" cy="218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932000" y="1600200"/>
            <a:ext cx="3600360" cy="218592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  <a:hlinkClick r:id="rId4"/>
          </p:cNvPr>
          <p:cNvSpPr/>
          <p:nvPr/>
        </p:nvSpPr>
        <p:spPr>
          <a:xfrm>
            <a:off x="7740720" y="623736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581360"/>
            <a:ext cx="352728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4581360"/>
            <a:ext cx="352728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39408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932000" y="1600200"/>
            <a:ext cx="3600360" cy="218592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nextslide"/>
            <a:hlinkClick r:id="rId4"/>
          </p:cNvPr>
          <p:cNvSpPr/>
          <p:nvPr/>
        </p:nvSpPr>
        <p:spPr>
          <a:xfrm>
            <a:off x="7740720" y="623736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4581360"/>
            <a:ext cx="352728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32360" y="4581360"/>
            <a:ext cx="352728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previousslide"/>
            <a:hlinkClick r:id="rId5"/>
          </p:cNvPr>
          <p:cNvSpPr/>
          <p:nvPr/>
        </p:nvSpPr>
        <p:spPr>
          <a:xfrm flipH="1">
            <a:off x="467640" y="623736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95280" y="1628280"/>
            <a:ext cx="3394080" cy="2186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543280" y="4508640"/>
            <a:ext cx="36003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previousslide"/>
            <a:hlinkClick r:id="rId3"/>
          </p:cNvPr>
          <p:cNvSpPr/>
          <p:nvPr/>
        </p:nvSpPr>
        <p:spPr>
          <a:xfrm flipH="1">
            <a:off x="467640" y="623736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932360" y="1125360"/>
            <a:ext cx="3600360" cy="2186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12160" y="5738760"/>
            <a:ext cx="7797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R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9520" y="573408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33940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3200" y="1816200"/>
            <a:ext cx="33940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88840" y="2031840"/>
            <a:ext cx="339408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04840" y="2247840"/>
            <a:ext cx="33940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4581360"/>
            <a:ext cx="352728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13:50:26Z</dcterms:created>
  <dc:creator>OEM Preinstalled User</dc:creator>
  <dc:description/>
  <dc:language>en-US</dc:language>
  <cp:lastModifiedBy>Sue Belford</cp:lastModifiedBy>
  <dcterms:modified xsi:type="dcterms:W3CDTF">2007-12-22T07:24:58Z</dcterms:modified>
  <cp:revision>16</cp:revision>
  <dc:subject/>
  <dc:title>Slide 1</dc:title>
</cp:coreProperties>
</file>